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6E75C4C2-0388-422D-8D66-7D15F0F80F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172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4352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598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79440" y="6375240"/>
            <a:ext cx="7467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BAEEB74F-2C79-4952-B4DA-985E181B8B4D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5980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ingle-page_application#cite_note-Flanagan2006-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762120"/>
            <a:ext cx="784872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 algn="ctr">
              <a:lnSpc>
                <a:spcPct val="97000"/>
              </a:lnSpc>
              <a:spcBef>
                <a:spcPts val="90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veebirakenduste tehnolo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6734160" cy="292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veebilehtede põhike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ujunduskeel, mitte programmeerimiske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ea tutorial:  https://www.w3schools.com/htm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eebirakenduste kursus me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ttp://lambda.ee/wiki/Veebirakend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utvume põhimõtetega loengus tehta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näidete ab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147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lle ette server paneb http-pä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võetakse reeglina k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lemasoleva failina arvuti ket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kstina, mille teeb iga kord uuesti mõni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040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 võib olla külge-ehit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ava-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eebiserveril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ph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040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i käia kohe eri-veebiserveri sees (java tomca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040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õi olla eraldi programm, mille server käivit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040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binatsioonid serverite ahelatega on samuti levin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840" indent="-2728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6640" y="372600"/>
            <a:ext cx="7765920" cy="312840"/>
            <a:chOff x="836640" y="372600"/>
            <a:chExt cx="7765920" cy="312840"/>
          </a:xfrm>
        </p:grpSpPr>
        <p:sp>
          <p:nvSpPr>
            <p:cNvPr id="152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äivitame lihtsa serveri: flask (flask.pocoo.org/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stalli Linux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do apt-get install python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do apt-get install python3-fl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 programm hello.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@app.route("/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ef hello(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turn "Hello World!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"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ivit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LASK_APP=hello.py flask r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6640" y="523440"/>
            <a:ext cx="7765920" cy="312840"/>
            <a:chOff x="836640" y="523440"/>
            <a:chExt cx="7765920" cy="312840"/>
          </a:xfrm>
        </p:grpSpPr>
        <p:sp>
          <p:nvSpPr>
            <p:cNvPr id="157" name=""/>
            <p:cNvSpPr/>
            <p:nvPr/>
          </p:nvSpPr>
          <p:spPr>
            <a:xfrm>
              <a:off x="836640" y="82872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8602560" y="5234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erveeri faile flaski serveri ab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me väikesed katsefailid katse.txt ja kats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lask serveerib faile kataloogist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tatic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teeme selle ja kopeerim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kdir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d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p /mnt/c/Users/Tanel/katse.txt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p /mnt/c/Users/Tanel/katse.html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static/katse.t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static/kats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6640" y="372600"/>
            <a:ext cx="7765920" cy="312840"/>
            <a:chOff x="836640" y="372600"/>
            <a:chExt cx="7765920" cy="312840"/>
          </a:xfrm>
        </p:grpSpPr>
        <p:sp>
          <p:nvSpPr>
            <p:cNvPr id="162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konventsi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kä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ne url cgi parameetrite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6.py?a=1&amp;b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8.py?a=12&amp;b=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t lisaks ja detaile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ambda.ee/wiki/Cgi_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6640" y="507600"/>
            <a:ext cx="7765920" cy="312840"/>
            <a:chOff x="836640" y="507600"/>
            <a:chExt cx="7765920" cy="312840"/>
          </a:xfrm>
        </p:grpSpPr>
        <p:sp>
          <p:nvSpPr>
            <p:cNvPr id="167" name=""/>
            <p:cNvSpPr/>
            <p:nvPr/>
          </p:nvSpPr>
          <p:spPr>
            <a:xfrm>
              <a:off x="836640" y="81468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602560" y="507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data.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 programm data.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"/"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hello(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 "Hello World!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'/cgi/show', methods=['POST', 'GET']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cgi(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params={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keys=request.args.keys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 key in key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params[key]=request.args.get(ke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(str(inparams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cgi/show?a=1&amp;b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36640" y="372600"/>
            <a:ext cx="7765920" cy="312840"/>
            <a:chOff x="836640" y="372600"/>
            <a:chExt cx="7765920" cy="312840"/>
          </a:xfrm>
        </p:grpSpPr>
        <p:sp>
          <p:nvSpPr>
            <p:cNvPr id="172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m.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'/cgi/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', methods=['POST', 'GET']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=request.args.get(“a“,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b=request.args.get(“b“,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turn(str(int(a)+int(b)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http://127.0.0.1:5000/cgi/sum?a=1&amp;b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36640" y="372600"/>
            <a:ext cx="7765920" cy="312840"/>
            <a:chOff x="836640" y="372600"/>
            <a:chExt cx="7765920" cy="312840"/>
          </a:xfrm>
        </p:grpSpPr>
        <p:sp>
          <p:nvSpPr>
            <p:cNvPr id="177" name=""/>
            <p:cNvSpPr/>
            <p:nvPr/>
          </p:nvSpPr>
          <p:spPr>
            <a:xfrm>
              <a:off x="836640" y="67788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Põhiasjad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vascrip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satehnoloogi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ebGL graaf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anv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ideo ja aud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Xsl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X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äikesed andmebaasi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468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182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Loe: http://www.w3schools.com/ht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Ametlik standard on HTML5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https://www.w3.org/TR/html5/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187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lassikaline veebirakend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Server saadab brauserile html teks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Kasutaja täidab vormid/vajutab nupp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Brauser saadab serverile sisestatud parameetrid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Bitstream Vera Sans"/>
              </a:rPr>
              <a:t>Server arvutab parameetrite järgi uue html teks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Brauser kuvab uue html tekst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Jne 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4680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192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0"/>
            <a:ext cx="811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Veebirakendu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990720"/>
            <a:ext cx="7848720" cy="54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teruttavalt: baasprotokoll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das http abil faili tõmm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fo saatmine serverile: cgi 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vascri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lassikaline veebirakendus: server ehitab html tek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ngle-page app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erver ehitab datat: json tek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vascript brauseris muudab/ehitab html teksti otse brauseri kõh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sintöödeldav andmete esitamine: JSON j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hnoloogiast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080" y="371520"/>
            <a:ext cx="7767720" cy="317520"/>
            <a:chOff x="838080" y="371520"/>
            <a:chExt cx="7767720" cy="317520"/>
          </a:xfrm>
        </p:grpSpPr>
        <p:sp>
          <p:nvSpPr>
            <p:cNvPr id="59" name=""/>
            <p:cNvSpPr/>
            <p:nvPr/>
          </p:nvSpPr>
          <p:spPr>
            <a:xfrm>
              <a:off x="838080" y="681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8605800" y="371520"/>
              <a:ext cx="0" cy="3175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mapp.py       </a:t>
            </a:r>
            <a:r>
              <a:rPr b="0" lang="et-EE" sz="2400" spc="-1" strike="noStrike">
                <a:solidFill>
                  <a:srgbClr val="000099"/>
                </a:solidFill>
                <a:latin typeface="Bitstream Vera Sans"/>
              </a:rPr>
              <a:t>http://127.0.0.1:5000/cgi/sumapp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76320"/>
            <a:ext cx="80773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@app.route('/cgi/sumapp', methods=['POST', 'GET']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def myapp(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=request.args.get("a",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b=request.args.get("b",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r="sum is: "+str(int(a)+int(b))+"&lt;p&gt;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s=""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form action='/cgi/sumapp'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 &lt;input type='text' name='a'&gt; &lt;b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b &lt;input type='text' name='b'&gt; &lt;p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input type='submit' value='calculate!'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""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if a and b: res=r+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else: res=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return(r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6800" y="549360"/>
            <a:ext cx="7765920" cy="312480"/>
            <a:chOff x="766800" y="549360"/>
            <a:chExt cx="7765920" cy="312480"/>
          </a:xfrm>
        </p:grpSpPr>
        <p:sp>
          <p:nvSpPr>
            <p:cNvPr id="197" name=""/>
            <p:cNvSpPr/>
            <p:nvPr/>
          </p:nvSpPr>
          <p:spPr>
            <a:xfrm>
              <a:off x="766800" y="853920"/>
              <a:ext cx="77608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532720" y="549360"/>
              <a:ext cx="0" cy="3124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äpset teksti paigutust ja kujundust võimaldav keel HTML täienduse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02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68640" y="3200400"/>
            <a:ext cx="309420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08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448080" y="396252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ingle-page 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ikipedia ütleb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single-page application (SPA) is a web application or web site that interacts with the user by dynamically rewriting the current page rather than loading entire new pages from a serv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is approach avoids interruption of the user experience between successive pages, making the application behave more like a desktop applic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 an SPA, either all necessary code – HTML, JavaScript, and CSS – is retrieved with a single page load,</a:t>
            </a:r>
            <a:r>
              <a:rPr b="0" lang="en-US" sz="1800" spc="-1" strike="noStrike" u="sng" baseline="30000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or the appropriate resources are dynamically loaded and added to the page as necess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18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sum.html rehkendus j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scrip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 otse brause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div id="ans"&gt;&lt;/div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form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 &lt;input type='text' id='a'&gt; &lt;b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 &lt;input type='text' id='b'&gt; &lt;p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input type='button' onclick='calc()' value='calculate with javascript!'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scrip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unction calc(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r a,b,r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=document.getElementById('a').val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=document.getElementById('b').val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s=String(parseInt(a)+parseInt(b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ocument.getElementById('ans').innerHTML="Sum is: "+r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1920"/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/scrip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523440"/>
            <a:ext cx="7764480" cy="312840"/>
            <a:chOff x="838080" y="523440"/>
            <a:chExt cx="7764480" cy="312840"/>
          </a:xfrm>
        </p:grpSpPr>
        <p:sp>
          <p:nvSpPr>
            <p:cNvPr id="227" name=""/>
            <p:cNvSpPr/>
            <p:nvPr/>
          </p:nvSpPr>
          <p:spPr>
            <a:xfrm>
              <a:off x="838080" y="82872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02560" y="52344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JAX:  j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scrip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ynchronous que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Javascrip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+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ync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rono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õte selles, et saad brauseris javascriptiga avada serveri urli a la n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etch(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,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thod: "get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}).then(r=&gt;r.text()).then(handleresul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 siis brauseris saadud teksti või andmetega (tüüpiliselt javascripti formaadis ehk jsonis) edasi tegutsed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ähtis: seni, kui datat tõmmatakse, sinu javascripti programm ei hangu, vaid käib normaalselt edasi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Bitstream Vera Sans"/>
              </a:rPr>
              <a:t>J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36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2sum.html  ajaxiga: rehkendus on serveri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div id="ans"&gt;&lt;/div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form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a &lt;input type='text' id='a'&gt; &lt;b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b &lt;input type='text' id='b'&gt; &lt;p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input type='button' onclick='calc()' value='calculate with ajax!'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script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function calc() 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var a,b,ur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a=document.getElementById('a').valu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b=document.getElementById('b').valu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url="/cgi/sum?a="+a+"&amp;b="+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fetch(url, 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method: "get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}).then(r=&gt;r.text()).then(handleresul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function handleresult(r) 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document.getElementById('ans').innerHTML="Sum is: "+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/script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38080" y="507600"/>
            <a:ext cx="7764480" cy="312840"/>
            <a:chOff x="838080" y="507600"/>
            <a:chExt cx="7764480" cy="312840"/>
          </a:xfrm>
        </p:grpSpPr>
        <p:sp>
          <p:nvSpPr>
            <p:cNvPr id="241" name=""/>
            <p:cNvSpPr/>
            <p:nvPr/>
          </p:nvSpPr>
          <p:spPr>
            <a:xfrm>
              <a:off x="838080" y="8146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8602560" y="507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 ja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sel kümnendil muutus XML väga populaarseks andme-esituskeele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hakati kasutama hulka keerulisi lisatehnoloogiad: XSLT, SOAP, XML Schema, UDDI jne, mis muutsid asja keerulise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muutus populaarseks JSON kui hulga lihtsam andme-esituskeel: lihtsalt javascripti andmesüntaks, väga sarnane pythoni süntaksile a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 “Tanel“,  “kursused“: [“itv0010“, “itv100“]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egu kasutatakse mõlemat, aga JSON on palju populaarsem. Laiatarbe-süsteemid a la Google pakuvad enamasti JSON-is andme-esit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4400" y="296640"/>
            <a:ext cx="7769160" cy="314280"/>
            <a:chOff x="914400" y="296640"/>
            <a:chExt cx="7769160" cy="314280"/>
          </a:xfrm>
        </p:grpSpPr>
        <p:sp>
          <p:nvSpPr>
            <p:cNvPr id="246" name="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683560" y="296640"/>
              <a:ext cx="0" cy="3142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&lt;nimi&gt;A Le Coq&lt;/nimi&gt;&lt;linn&gt;Tartu&lt;/linn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truktureeritud teksti esitamise forma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XML standard ütleb, kuidas teksti struktuuri märgist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Saab kasutada andmete esitamiseks teks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aga veidi kohmakas kasut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eerimiske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51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tähendab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 Object No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[1,2,“siin on tekst“, [“sisemine“,5], 10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“Peeter“,  “pikkus“: 180, “hinded“: [5,3,2]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ndme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esitamise formaa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teks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vascripti programmeerimiskeele „native“ andmestruktu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äg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l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ja mugav kasut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aasajal brauserirakendustes eelistatum kui X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i o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grammeerimiske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27324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56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tteruttavalt protokollindusest inter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336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38080" y="371520"/>
            <a:ext cx="7767720" cy="317520"/>
            <a:chOff x="838080" y="371520"/>
            <a:chExt cx="7767720" cy="317520"/>
          </a:xfrm>
        </p:grpSpPr>
        <p:sp>
          <p:nvSpPr>
            <p:cNvPr id="64" name=""/>
            <p:cNvSpPr/>
            <p:nvPr/>
          </p:nvSpPr>
          <p:spPr>
            <a:xfrm>
              <a:off x="838080" y="681120"/>
              <a:ext cx="776448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605800" y="371520"/>
              <a:ext cx="0" cy="31752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971800" y="5638680"/>
            <a:ext cx="3578400" cy="454320"/>
            <a:chOff x="2971800" y="5638680"/>
            <a:chExt cx="3578400" cy="454320"/>
          </a:xfrm>
        </p:grpSpPr>
        <p:sp>
          <p:nvSpPr>
            <p:cNvPr id="67" name=""/>
            <p:cNvSpPr/>
            <p:nvPr/>
          </p:nvSpPr>
          <p:spPr>
            <a:xfrm>
              <a:off x="2971800" y="5638680"/>
              <a:ext cx="3578400" cy="45432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1800" y="5638680"/>
              <a:ext cx="357840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971800" y="5029200"/>
            <a:ext cx="3578400" cy="453960"/>
            <a:chOff x="2971800" y="5029200"/>
            <a:chExt cx="3578400" cy="453960"/>
          </a:xfrm>
        </p:grpSpPr>
        <p:sp>
          <p:nvSpPr>
            <p:cNvPr id="70" name=""/>
            <p:cNvSpPr/>
            <p:nvPr/>
          </p:nvSpPr>
          <p:spPr>
            <a:xfrm>
              <a:off x="2971800" y="5029200"/>
              <a:ext cx="3578400" cy="4539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5029200"/>
              <a:ext cx="35784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95480" y="4038480"/>
            <a:ext cx="3578400" cy="530280"/>
            <a:chOff x="2895480" y="4038480"/>
            <a:chExt cx="3578400" cy="530280"/>
          </a:xfrm>
        </p:grpSpPr>
        <p:sp>
          <p:nvSpPr>
            <p:cNvPr id="73" name=""/>
            <p:cNvSpPr/>
            <p:nvPr/>
          </p:nvSpPr>
          <p:spPr>
            <a:xfrm>
              <a:off x="2895480" y="4038480"/>
              <a:ext cx="3578400" cy="5302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4038480"/>
              <a:ext cx="3578400" cy="5302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133720" y="2666880"/>
            <a:ext cx="1596960" cy="758880"/>
            <a:chOff x="2133720" y="2666880"/>
            <a:chExt cx="1596960" cy="758880"/>
          </a:xfrm>
        </p:grpSpPr>
        <p:sp>
          <p:nvSpPr>
            <p:cNvPr id="76" name=""/>
            <p:cNvSpPr/>
            <p:nvPr/>
          </p:nvSpPr>
          <p:spPr>
            <a:xfrm>
              <a:off x="2133720" y="2666880"/>
              <a:ext cx="159696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2666880"/>
              <a:ext cx="159696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562720" y="2743200"/>
            <a:ext cx="1596960" cy="758880"/>
            <a:chOff x="5562720" y="2743200"/>
            <a:chExt cx="1596960" cy="758880"/>
          </a:xfrm>
        </p:grpSpPr>
        <p:sp>
          <p:nvSpPr>
            <p:cNvPr id="79" name=""/>
            <p:cNvSpPr/>
            <p:nvPr/>
          </p:nvSpPr>
          <p:spPr>
            <a:xfrm>
              <a:off x="5562720" y="2743200"/>
              <a:ext cx="159696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62720" y="2743200"/>
              <a:ext cx="159696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19320" y="1600200"/>
            <a:ext cx="1063440" cy="682560"/>
            <a:chOff x="1219320" y="1600200"/>
            <a:chExt cx="1063440" cy="682560"/>
          </a:xfrm>
        </p:grpSpPr>
        <p:sp>
          <p:nvSpPr>
            <p:cNvPr id="82" name=""/>
            <p:cNvSpPr/>
            <p:nvPr/>
          </p:nvSpPr>
          <p:spPr>
            <a:xfrm>
              <a:off x="12193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193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1600200"/>
            <a:ext cx="1063800" cy="682560"/>
            <a:chOff x="2438280" y="1600200"/>
            <a:chExt cx="1063800" cy="682560"/>
          </a:xfrm>
        </p:grpSpPr>
        <p:sp>
          <p:nvSpPr>
            <p:cNvPr id="85" name=""/>
            <p:cNvSpPr/>
            <p:nvPr/>
          </p:nvSpPr>
          <p:spPr>
            <a:xfrm>
              <a:off x="2438280" y="1600200"/>
              <a:ext cx="106380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8280" y="1600200"/>
              <a:ext cx="106380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7600" y="1600200"/>
            <a:ext cx="1063800" cy="682560"/>
            <a:chOff x="3657600" y="1600200"/>
            <a:chExt cx="1063800" cy="682560"/>
          </a:xfrm>
        </p:grpSpPr>
        <p:sp>
          <p:nvSpPr>
            <p:cNvPr id="88" name=""/>
            <p:cNvSpPr/>
            <p:nvPr/>
          </p:nvSpPr>
          <p:spPr>
            <a:xfrm>
              <a:off x="3657600" y="1600200"/>
              <a:ext cx="106380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1600200"/>
              <a:ext cx="106380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334120" y="1600200"/>
            <a:ext cx="1063440" cy="682560"/>
            <a:chOff x="5334120" y="1600200"/>
            <a:chExt cx="1063440" cy="682560"/>
          </a:xfrm>
        </p:grpSpPr>
        <p:sp>
          <p:nvSpPr>
            <p:cNvPr id="91" name=""/>
            <p:cNvSpPr/>
            <p:nvPr/>
          </p:nvSpPr>
          <p:spPr>
            <a:xfrm>
              <a:off x="53341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41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705720" y="1600200"/>
            <a:ext cx="1063440" cy="682560"/>
            <a:chOff x="6705720" y="1600200"/>
            <a:chExt cx="1063440" cy="682560"/>
          </a:xfrm>
        </p:grpSpPr>
        <p:sp>
          <p:nvSpPr>
            <p:cNvPr id="94" name=""/>
            <p:cNvSpPr/>
            <p:nvPr/>
          </p:nvSpPr>
          <p:spPr>
            <a:xfrm>
              <a:off x="6705720" y="1600200"/>
              <a:ext cx="106344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05720" y="1600200"/>
              <a:ext cx="106344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066680" y="4025520"/>
            <a:ext cx="838440" cy="132084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187440" y="3492000"/>
            <a:ext cx="406440" cy="4064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10080" y="3568320"/>
            <a:ext cx="381240" cy="3301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629400" y="2349360"/>
            <a:ext cx="380880" cy="3304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006960" y="2349360"/>
            <a:ext cx="177840" cy="3304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120760" y="2273040"/>
            <a:ext cx="177840" cy="3301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95480" y="2349360"/>
            <a:ext cx="1800" cy="25416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429000" y="2273040"/>
            <a:ext cx="304920" cy="3301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8320" y="4635360"/>
            <a:ext cx="1440" cy="33048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8320" y="5473800"/>
            <a:ext cx="1440" cy="1778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16440" y="5334120"/>
            <a:ext cx="863640" cy="144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</a:path>
            </a:pathLst>
          </a:custGeom>
          <a:noFill/>
          <a:ln cap="sq" w="25560">
            <a:solidFill>
              <a:srgbClr val="3333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480" y="2273400"/>
            <a:ext cx="609840" cy="635040"/>
          </a:xfrm>
          <a:prstGeom prst="line">
            <a:avLst/>
          </a:prstGeom>
          <a:ln cap="sq"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762120"/>
            <a:ext cx="78487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rask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eha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s loeks teisest serverist HTML-lehekülg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leiaks nende sisust kergesti vajaliku inf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a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teeme võrgulehekülg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htsalt andmetekstina jsonis või xmli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i et programm teises arvutis suudaks neid luge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192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14400" y="296640"/>
            <a:ext cx="7769160" cy="314280"/>
            <a:chOff x="914400" y="296640"/>
            <a:chExt cx="7769160" cy="314280"/>
          </a:xfrm>
        </p:grpSpPr>
        <p:sp>
          <p:nvSpPr>
            <p:cNvPr id="261" name=""/>
            <p:cNvSpPr/>
            <p:nvPr/>
          </p:nvSpPr>
          <p:spPr>
            <a:xfrm>
              <a:off x="914400" y="605160"/>
              <a:ext cx="776592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8683560" y="296640"/>
              <a:ext cx="0" cy="3142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905120" y="3962520"/>
            <a:ext cx="453960" cy="530280"/>
            <a:chOff x="1905120" y="3962520"/>
            <a:chExt cx="453960" cy="530280"/>
          </a:xfrm>
        </p:grpSpPr>
        <p:sp>
          <p:nvSpPr>
            <p:cNvPr id="264" name=""/>
            <p:cNvSpPr/>
            <p:nvPr/>
          </p:nvSpPr>
          <p:spPr>
            <a:xfrm>
              <a:off x="1905120" y="3962520"/>
              <a:ext cx="453960" cy="53028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35080" y="41194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82680" y="4119480"/>
              <a:ext cx="46080" cy="558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08080" y="4344840"/>
              <a:ext cx="249480" cy="4788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cap="sq"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952880" y="3265560"/>
            <a:ext cx="1447920" cy="784080"/>
          </a:xfrm>
          <a:prstGeom prst="line">
            <a:avLst/>
          </a:prstGeom>
          <a:ln cap="sq"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cap="sq"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Front-end tehnoloogiastack on päris keerul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38080" y="507600"/>
            <a:ext cx="7764480" cy="312840"/>
            <a:chOff x="838080" y="507600"/>
            <a:chExt cx="7764480" cy="312840"/>
          </a:xfrm>
        </p:grpSpPr>
        <p:sp>
          <p:nvSpPr>
            <p:cNvPr id="282" name=""/>
            <p:cNvSpPr/>
            <p:nvPr/>
          </p:nvSpPr>
          <p:spPr>
            <a:xfrm>
              <a:off x="838080" y="8146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602560" y="507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14600" y="890640"/>
            <a:ext cx="4835520" cy="5967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5440" y="833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ttps://codeburst.io/the-2018-web-developer-roadmap-826b1b806e8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a back-end (serverirakendus) samut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7200"/>
                <a:tab algn="l" pos="627120"/>
                <a:tab algn="l" pos="1084320"/>
                <a:tab algn="l" pos="1541520"/>
                <a:tab algn="l" pos="1998720"/>
                <a:tab algn="l" pos="2455920"/>
                <a:tab algn="l" pos="2913120"/>
                <a:tab algn="l" pos="3370320"/>
                <a:tab algn="l" pos="3827520"/>
                <a:tab algn="l" pos="4284720"/>
                <a:tab algn="l" pos="4741920"/>
                <a:tab algn="l" pos="5199120"/>
                <a:tab algn="l" pos="5656320"/>
                <a:tab algn="l" pos="6113520"/>
                <a:tab algn="l" pos="6570720"/>
                <a:tab algn="l" pos="7027920"/>
                <a:tab algn="l" pos="7485120"/>
                <a:tab algn="l" pos="7942320"/>
                <a:tab algn="l" pos="8399520"/>
                <a:tab algn="l" pos="8856720"/>
                <a:tab algn="l" pos="9313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289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819520" y="884160"/>
            <a:ext cx="4114800" cy="5973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5440" y="833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ttps://codeburst.io/the-2018-web-developer-roadmap-826b1b806e8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TCP pe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json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ne jne saatmiseks veebiserveri ja brauseri vah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76200" y="2579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cap="sq"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1520" y="3735360"/>
            <a:ext cx="1939680" cy="1919160"/>
            <a:chOff x="6851520" y="3735360"/>
            <a:chExt cx="1939680" cy="1919160"/>
          </a:xfrm>
        </p:grpSpPr>
        <p:sp>
          <p:nvSpPr>
            <p:cNvPr id="117" name=""/>
            <p:cNvSpPr/>
            <p:nvPr/>
          </p:nvSpPr>
          <p:spPr>
            <a:xfrm>
              <a:off x="6851520" y="3753000"/>
              <a:ext cx="1891800" cy="1901520"/>
            </a:xfrm>
            <a:custGeom>
              <a:avLst/>
              <a:gdLst>
                <a:gd name="textAreaLeft" fmla="*/ 360 w 1891800"/>
                <a:gd name="textAreaRight" fmla="*/ 1891440 w 1891800"/>
                <a:gd name="textAreaTop" fmla="*/ 360 h 1901520"/>
                <a:gd name="textAreaBottom" fmla="*/ 1901160 h 1901520"/>
              </a:gdLst>
              <a:ahLst/>
              <a:rect l="textAreaLeft" t="textAreaTop" r="textAreaRight" b="textAreaBottom"/>
              <a:pathLst>
                <a:path w="21600" h="21711">
                  <a:moveTo>
                    <a:pt x="21" y="0"/>
                  </a:moveTo>
                  <a:arcTo wR="21" hR="21" stAng="16200000" swAng="-5400000"/>
                  <a:lnTo>
                    <a:pt x="0" y="21690"/>
                  </a:lnTo>
                  <a:arcTo wR="21" hR="21" stAng="10800000" swAng="-5400000"/>
                  <a:lnTo>
                    <a:pt x="21579" y="21711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cap="sq"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99400" y="3735360"/>
              <a:ext cx="1891800" cy="1901880"/>
            </a:xfrm>
            <a:custGeom>
              <a:avLst/>
              <a:gdLst>
                <a:gd name="textAreaLeft" fmla="*/ 360 w 1891800"/>
                <a:gd name="textAreaRight" fmla="*/ 1891440 w 1891800"/>
                <a:gd name="textAreaTop" fmla="*/ 360 h 1901880"/>
                <a:gd name="textAreaBottom" fmla="*/ 1901520 h 1901880"/>
              </a:gdLst>
              <a:ahLst/>
              <a:rect l="textAreaLeft" t="textAreaTop" r="textAreaRight" b="textAreaBottom"/>
              <a:pathLst>
                <a:path w="21600" h="21715">
                  <a:moveTo>
                    <a:pt x="21" y="0"/>
                  </a:moveTo>
                  <a:arcTo wR="21" hR="21" stAng="16200000" swAng="-5400000"/>
                  <a:lnTo>
                    <a:pt x="0" y="21694"/>
                  </a:lnTo>
                  <a:arcTo wR="21" hR="21" stAng="10800000" swAng="-5400000"/>
                  <a:lnTo>
                    <a:pt x="21579" y="21715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Bitstream Vera Sans"/>
                </a:rPr>
                <a:t>või saada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Bitstream Vera Sans"/>
                </a:rPr>
                <a:t>andme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317600" y="2754360"/>
            <a:ext cx="2019240" cy="127692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rgule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 võ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muid andm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476160" y="3046320"/>
            <a:ext cx="3165480" cy="92880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78320" y="3735360"/>
            <a:ext cx="3162240" cy="95724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 on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esmajoone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line käsk serveril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nkreetne küsimus-kä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faili asukoht ja ni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okoll, mida küsija kasut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ja soovi korral lisainfot, nagu küsija programmi tüüp 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hrome, firefox, curl, 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mas saab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ule kaasa anda teksti kujul andmeid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d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server siis salvestab ja/või rehkendab nende järgi vast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990720"/>
            <a:ext cx="78487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is, tühi rida, teksti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7800" y="2147760"/>
            <a:ext cx="228600" cy="2362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cap="sq"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344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0880" y="4948200"/>
            <a:ext cx="480960" cy="317520"/>
          </a:xfrm>
          <a:prstGeom prst="line">
            <a:avLst/>
          </a:prstGeom>
          <a:ln cap="sq"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26560" y="5137200"/>
            <a:ext cx="609480" cy="1371600"/>
          </a:xfrm>
          <a:custGeom>
            <a:avLst/>
            <a:gdLst>
              <a:gd name="textAreaLeft" fmla="*/ 0 w 609480"/>
              <a:gd name="textAreaRight" fmla="*/ 609840 w 6094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cap="sq"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98160" y="419724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38088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https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>
              <a:lnSpc>
                <a:spcPct val="97000"/>
              </a:lnSpc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päring on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rüpteeritud variant http päringus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>
              <a:lnSpc>
                <a:spcPct val="97000"/>
              </a:lnSpc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>
              <a:lnSpc>
                <a:spcPct val="97000"/>
              </a:lnSpc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äring ise ja vastus krüpteeritakse võtmeg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>
              <a:lnSpc>
                <a:spcPct val="97000"/>
              </a:lnSpc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is automaatselt genereeritakse iga ühenduse jao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229440" cy="6126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38080" y="380880"/>
            <a:ext cx="77612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surealt curl programmiga (teine variant salvestab http päis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url https://news.ycombinator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url https://news.ycombinator.com -i  &gt; ajut.t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i programmi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mport urllib.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q =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rllib.request.urlopen('http:/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'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tml =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q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.rea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rint(htm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04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0120"/>
                <a:tab algn="l" pos="442800"/>
                <a:tab algn="l" pos="900000"/>
                <a:tab algn="l" pos="1357200"/>
                <a:tab algn="l" pos="1814400"/>
                <a:tab algn="l" pos="2271600"/>
                <a:tab algn="l" pos="2728800"/>
                <a:tab algn="l" pos="3186000"/>
                <a:tab algn="l" pos="3643200"/>
                <a:tab algn="l" pos="4100400"/>
                <a:tab algn="l" pos="4557600"/>
                <a:tab algn="l" pos="5014800"/>
                <a:tab algn="l" pos="5472000"/>
                <a:tab algn="l" pos="5929200"/>
                <a:tab algn="l" pos="6386400"/>
                <a:tab algn="l" pos="6843600"/>
                <a:tab algn="l" pos="7300800"/>
                <a:tab algn="l" pos="7758000"/>
                <a:tab algn="l" pos="8215200"/>
                <a:tab algn="l" pos="8672400"/>
                <a:tab algn="l" pos="91296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8080" y="372600"/>
            <a:ext cx="7764480" cy="312840"/>
            <a:chOff x="838080" y="372600"/>
            <a:chExt cx="7764480" cy="312840"/>
          </a:xfrm>
        </p:grpSpPr>
        <p:sp>
          <p:nvSpPr>
            <p:cNvPr id="142" name=""/>
            <p:cNvSpPr/>
            <p:nvPr/>
          </p:nvSpPr>
          <p:spPr>
            <a:xfrm>
              <a:off x="838080" y="677880"/>
              <a:ext cx="7761240" cy="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02560" y="372600"/>
              <a:ext cx="0" cy="31284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20-10-21T13:38:36Z</dcterms:modified>
  <cp:revision>63</cp:revision>
  <dc:subject/>
  <dc:title> </dc:title>
</cp:coreProperties>
</file>